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98B5-D925-45A8-88FC-2FFB7947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46C2-30D1-46E9-B1CF-1C43D9F2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8E22-AE0A-4675-B3B8-1F44B8DD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FFAB-1A63-42C6-9FCE-B3C48A1E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054-D7B7-4271-B0BA-64362DDB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D77-73AF-40CA-8A9A-509D99E6E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02E-0755-47FC-BADC-408E624E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BAE0-8081-414E-91E5-27393E45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37B-EDB8-48E8-BA84-66D646BC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27C-D58B-412A-8EEA-752139EF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2B6-2856-448E-A7BF-FD32596C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623B-E7DD-4F59-B05B-462F2A98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0E9B-BBDA-49FA-8D02-3DEC9A5EC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pcontent.answcdn.com/wikipedia/en/thumb/3/3f/MostlyMartha.jpg/220px-MostlyMartha.jpg"/>
          <p:cNvPicPr/>
          <p:nvPr/>
        </p:nvPicPr>
        <p:blipFill>
          <a:blip r:embed="rId1"/>
          <a:stretch/>
        </p:blipFill>
        <p:spPr>
          <a:xfrm>
            <a:off x="1371600" y="0"/>
            <a:ext cx="4343400" cy="6435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943600" y="380880"/>
            <a:ext cx="32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fgab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reibt ein Paragraf über dieses Bild (mindestens 30 Wörter).  Was passiert in diesem Fil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fgabe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beitsblatt (Nach dem Abendess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arum konnte Martha nicht gut atmen (breathe)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e ist schnell gelaufe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e Küche war zu schmutzig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e hat schlechtes Essen gegesse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arum hat Martha Lina vergessen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e war mit mit der Hilfsköchin im Krankenhau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e musste arbeite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e hat Lina nicht vergesse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as hat Lina weggeschmissen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inen Fisc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.  Spaghetti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. Truff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arum meint die Chefin, dass Lina nicht mehr dabei bei der Arbeit ist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rtha kann nicht mehr gut konzentriere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e spielt zu viel mit dem Ess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e soll mit anderen Kinder sein und sie geht zu spat ins Bet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r hat das Abendessen geplant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ri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rth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fgabe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reibt “als” Nebensätze (clauses) über Marthas Leben. (mindestens 45 Wörter auf Deuts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 Martha allein war, war sie…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 sie mit Lina war, war si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 sie mit Mario war,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 Mario, Martha und Lina zusammen waren,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pcontent.answcdn.com/wikipedia/en/thumb/3/3f/MostlyMartha.jpg/220px-MostlyMartha.jpg"/>
          <p:cNvPicPr/>
          <p:nvPr/>
        </p:nvPicPr>
        <p:blipFill>
          <a:blip r:embed="rId1"/>
          <a:stretch/>
        </p:blipFill>
        <p:spPr>
          <a:xfrm>
            <a:off x="533520" y="0"/>
            <a:ext cx="3581280" cy="5307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artsandentertainmentplayground.com/wp-content/uploads/2011/04/no-reservations.jpg"/>
          <p:cNvPicPr/>
          <p:nvPr/>
        </p:nvPicPr>
        <p:blipFill>
          <a:blip r:embed="rId2"/>
          <a:stretch/>
        </p:blipFill>
        <p:spPr>
          <a:xfrm>
            <a:off x="4876920" y="0"/>
            <a:ext cx="334332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762120" y="5486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fgabe 2:  Vergleich diese Bilder.  Was ist ähnlich?  Was ist verschieden?  Benutz entweder Liste (ähnlich/verschieden) oder benutzt ein Venn-Diagram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fgabe 3:  Vorstellu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ährend der Musik am Anfang des Filmes   (Vorstellung) sehen wir vielen Kuchengeräte und Vokabeln Wörter.  Schreib mindesten 8 (aber wenn du extra schreibst, bekommst du extra Punkt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fgabe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chreib Martha.  Was für eine Person ist sie?  Was ist dein Eindruck (impression)  30 Wörte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fgabe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antworte die Frage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A. Fra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Martha spricht mit ihrem Therapeuten normalerweise ü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Ess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Ihre emotionalen Proble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Beziehungen [=relationship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Wer will, dass Martha zu dem Therapeuten ge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Marth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Marthas Famili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Marthas Chef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L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Weiß Martha, was ihr Problem i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Was ist das Problem mit der Foie Gr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Zu ro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Zu trock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Zu fet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Zu französis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Martha sagt, ein guter Koch kan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komplizierte Gerichte [=dishes] gut koch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einfache Gerichte gut koc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fgabe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r ist am Telef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ist passie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chreib Marthas Laune (mood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 Wörter auf Deutsch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fgabe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reib auf Englis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 the following symboliz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bs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frige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fgabe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schreib Martha und Arbeiten mit Martha von Marios Perspecti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 Wö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fgabe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 gab eine bestimmt Atmosphäre in Restaurant wenn Martha da ist.  Wie ist die Ätmosphäre in dem Restaurant anders wenn Mario da ist?  (30 Wör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enn Marta in dem Restaurant ist, ist die Atmosphäre…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18:58:31Z</dcterms:created>
  <dc:creator>ahart</dc:creator>
  <dc:description/>
  <dc:language>en-US</dc:language>
  <cp:lastModifiedBy>Alissa</cp:lastModifiedBy>
  <dcterms:modified xsi:type="dcterms:W3CDTF">2013-04-28T20:01:35Z</dcterms:modified>
  <cp:revision>28</cp:revision>
  <dc:subject/>
  <dc:title>Slide 1</dc:title>
</cp:coreProperties>
</file>